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0D64-3570-4332-B640-38220276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202-27BD-453B-8662-376AE89A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19B-52D2-4A2E-A689-35405841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B01F-1042-48E0-9BBE-CFBFD226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5E1F-0BB5-4299-9FD4-102AAF20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750D-98F7-4C2A-8177-B15E7C04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3BB-8C5B-4FAE-A8F4-3EBD54AA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ED12-6617-4353-95A1-B7814C78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395-DEAE-40EF-B813-30D97ADA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6162-0DC5-4FD6-A751-75D1BEEF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13DF-1939-42BC-AEFE-BDA68B2D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AE23-2D45-4E29-8B33-2C31EB00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D1D3-EA96-479F-9DF5-C872C9372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mic Sans MS"/>
              </a:rPr>
              <a:t>Year 6 Leavers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9900"/>
                </a:solidFill>
                <a:latin typeface="Comic Sans MS"/>
              </a:rPr>
              <a:t>Owlies 20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Most Mature Sense of Hum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Lucy Anth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Most Imaginative and Creative Think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Yelena Burgwy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Most Sporting Individu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Leah But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All Round High Quality Perform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Natasha J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Outstanding Performer in all Curriculum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Megan Bata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ff0000"/>
                </a:solidFill>
                <a:latin typeface="Comic Sans MS"/>
              </a:rPr>
              <a:t>Cheekiest Giggle and Outstanding Choreography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Alana Ross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mic Sans MS"/>
              </a:rPr>
              <a:t>Year 6 Leavers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170028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9900"/>
                </a:solidFill>
                <a:latin typeface="Comic Sans MS"/>
              </a:rPr>
              <a:t>Owlies 20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11280" y="2781360"/>
            <a:ext cx="2857320" cy="3305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492360" y="3357720"/>
            <a:ext cx="489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Congratulations to a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Outstanding Musici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Katy Willi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Most Promising Future West End Perform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Matthew Da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Most Courageous Dramatic Perform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Callum Bow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Most Talented Swimm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Sarah G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Most Dramatic Improvement made in Literacy in a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Luc 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Most Dramatic Improvement in Math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Chelsea Lew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Most Improved Rea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Leonie J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Most Enthusiastic Environmental Scient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Corey Cole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07:33:14Z</dcterms:created>
  <dc:creator>Roberts</dc:creator>
  <dc:description/>
  <dc:language>en-US</dc:language>
  <cp:lastModifiedBy>Roberts</cp:lastModifiedBy>
  <dcterms:modified xsi:type="dcterms:W3CDTF">2010-07-14T07:47:42Z</dcterms:modified>
  <cp:revision>2</cp:revision>
  <dc:subject/>
  <dc:title>Year 6 Leavers 2010</dc:title>
</cp:coreProperties>
</file>